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8EB-8571-4B2E-90DA-F593F303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6FC-711D-4CB8-8C88-1E802F37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8F5-2C6B-4EA9-B4FC-D7DFF3C8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ABE-0105-4942-B2A6-7FD9F7BD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343-84EB-49B9-8013-B0C25609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DAD-9267-431C-A937-CBFDCCE1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A2E-9D74-4C8E-8E8A-A907724A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1B1-BF75-4EBF-90FC-28A0954F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E93-CF47-4D8F-B6D4-6B7A6614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F9E-7EA2-43CA-86A8-0DA170F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7C5-9AE4-49DA-B0DD-5CCD807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1C8-D851-45E6-B72B-33A28F77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D29F-66C4-4CF8-8D0A-469D29B32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6705720"/>
            <a:ext cx="533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1905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1218600" y="3504960"/>
            <a:ext cx="53352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5562000" y="3962160"/>
            <a:ext cx="53352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1828440" y="761976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64771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5333400" y="7696080"/>
            <a:ext cx="4572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162240" y="-3162240"/>
            <a:ext cx="53352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609480"/>
            <a:ext cx="5335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480"/>
            <a:ext cx="53352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19520"/>
            <a:ext cx="5335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5638320" y="3352680"/>
            <a:ext cx="38088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2590920"/>
            <a:ext cx="5335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1142640" y="3429000"/>
            <a:ext cx="38124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429000"/>
            <a:ext cx="6098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9907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9907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99072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9907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67057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74674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640080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60958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48640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54100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rot="1825200">
            <a:off x="685800" y="7467120"/>
            <a:ext cx="4446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640" y="0"/>
            <a:ext cx="182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c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5974920" y="572760"/>
            <a:ext cx="145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ction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-349200" y="953640"/>
            <a:ext cx="145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ction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861840" y="1649160"/>
            <a:ext cx="116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2157840" y="1649160"/>
            <a:ext cx="116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3376800" y="1649160"/>
            <a:ext cx="116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672440" y="1649160"/>
            <a:ext cx="116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-369720" y="3339000"/>
            <a:ext cx="1041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5976000" y="7202160"/>
            <a:ext cx="145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 - Non-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6144120" y="3225960"/>
            <a:ext cx="111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2009160" y="3778920"/>
            <a:ext cx="1465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ckout De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494160" y="7245720"/>
            <a:ext cx="1695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 -Fiction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480" y="4191120"/>
            <a:ext cx="111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9080" y="4267080"/>
            <a:ext cx="1797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ters/Work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21840" y="6858000"/>
            <a:ext cx="141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7400" y="4876920"/>
            <a:ext cx="5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7120" y="4876920"/>
            <a:ext cx="5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8077320"/>
            <a:ext cx="1414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en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61120" y="5791320"/>
            <a:ext cx="59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62485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62485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6324480"/>
            <a:ext cx="82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7962800">
            <a:off x="369360" y="7783200"/>
            <a:ext cx="1092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C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8001000"/>
            <a:ext cx="1219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methean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61120" y="2057400"/>
            <a:ext cx="59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3352680"/>
            <a:ext cx="82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276720"/>
            <a:ext cx="82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Closet/Recording 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5:53:28Z</dcterms:created>
  <dc:creator>ssproul</dc:creator>
  <dc:description/>
  <dc:language>en-US</dc:language>
  <cp:lastModifiedBy>ssproul</cp:lastModifiedBy>
  <dcterms:modified xsi:type="dcterms:W3CDTF">2011-05-15T18:36:18Z</dcterms:modified>
  <cp:revision>4</cp:revision>
  <dc:subject/>
  <dc:title>Slide 1</dc:title>
</cp:coreProperties>
</file>